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25.gif" ContentType="image/gif"/>
  <Override PartName="/ppt/media/image5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media/image4.jpeg" ContentType="image/jpeg"/>
  <Override PartName="/ppt/media/image12.jpeg" ContentType="image/jpeg"/>
  <Override PartName="/ppt/media/image24.gif" ContentType="image/gif"/>
  <Override PartName="/ppt/media/image21.jpeg" ContentType="image/jpeg"/>
  <Override PartName="/ppt/media/image22.jpeg" ContentType="image/jpeg"/>
  <Override PartName="/ppt/media/image17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1.png" ContentType="image/pn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BE70-1888-4E4A-AA70-53CAD358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E72-F539-4321-8DFE-49835A12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794B4-830E-4945-B5EC-7437C500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80B25-1B55-4276-A9E9-58C83DDB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E402B-22B1-40AA-BFBE-23588B76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E75C8-F94A-4AA0-B7DD-A226DD8F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4B104-B09D-453B-B15B-AAECCD49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6DA39-1157-4C75-A608-20E233CE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63AC7-CFF0-4786-9840-89A526B9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68FF9-B31A-4B3F-9F4F-72F7613B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B968B-9110-4353-9326-14D29BE9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B8E3B-FC5D-459E-9702-5F021008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2E1-A6E6-425C-88FE-BD489DF3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445CE-AC0A-4F65-AD89-AF637DD2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7A0E8-B464-4C73-853F-78913E09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7D606-1EA0-4D03-8AB2-C696D547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3FD81-94C3-4CD1-A1C4-40E1DD43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1E27B-BCE8-416C-B58E-F2E77231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E64AA-C25C-4827-9189-9EC06F2A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E1EF9-6FBF-4D0F-AC5F-55C11E9A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57D32-7A45-4A42-935B-8B58E7D9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9F7B9-3BFE-40CE-9F5D-CA8AD0F9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0E31F-FA5C-4A79-80C7-AFC9450B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1D8E-FCBA-4A3A-A1FB-17ADE1E1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C4C53-2608-42C1-8F0C-7BC903F9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16760-64EE-4F47-9763-4DFED9C4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C9319-FB43-43BE-B6E7-52A68F85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FF060-A6AF-4B2C-9131-482ABCB1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BF5D1-A9A9-402A-AFD7-A16C2A8C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83C80-3E6C-4F4A-BBB1-439F485E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E6B5B-6E29-46BD-B3D3-194F2019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FD934-5870-4305-9645-A73E1795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6F350-89B3-44AF-B3FB-735D50C1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7EEA7-A1BA-420C-8B53-0F7D2BEC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3D92-57A3-45D4-96A3-BE84DA83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4B2D4-F649-4985-AF50-1139E46C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6B401-218C-4C1A-8DF6-4A2389BF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085E4-A539-438C-9799-FBF3BC4C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AE29F-BB1C-4522-A99C-6299A941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A34D3-66DD-4641-A30A-BD205DC8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669A7-54E1-4D64-B1F4-30E67295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B25CB-EC92-4C7F-BB19-7FA95E71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018E0-E103-4DD6-8608-36B0B78A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C4B80-DB07-42BA-A551-3C0839A9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684A3-F5E5-4DB0-BE49-9EDA259E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BA2B-8910-4B9A-9B70-B89493AA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BD2F2-02D0-45B0-B31C-92B0A14C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84681-8F69-4A9D-90FC-E1003CA3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A24CE-4F92-45BD-80A0-0A8FC423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8B275-FE0A-40D7-98EB-B48CF33A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E7F1C-79B0-4099-9FD8-1AE8D907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57606-FFBC-4AD2-8EC1-30B18EE4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7BABB-408C-4DD8-A9B4-680A1B9F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DD708C-0359-449E-8C37-E0A65136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AB4E9C-44B1-4D41-BE3E-DE4BDC6D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9D458C-E897-4A09-A739-AE2E58AE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FF6C-8B7C-422B-A84E-95619D3C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892CCB-EBE0-4DE2-97A5-EF1A5434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688191-DBC0-467D-AA5B-D4FB2386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08667-6326-41DC-A18D-4989C800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B6FA7B-F4FC-4486-9338-5A696BE6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A5B08-1853-408B-8DBE-E671546F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0FDD6-5B0D-4CA4-A2A7-DA7A97BE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02C4E-7D9C-4B01-A9DE-0DD11B61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105B-1A90-42FB-84CC-EDA119A5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CB8C-7D52-4325-A7E0-4D82D57A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795A-4144-4C5B-B33B-D3BFD557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C897-D245-46FD-B5F7-A9E00607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775E-DDCC-46E8-BFF1-4831B159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85E8-D725-432A-AF70-CF9A542F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9E8F-8491-495F-8CA9-D7453129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E0DB-431B-4C7F-A460-8A7A437A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12F7-7547-4999-ABEE-56C1BEB7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F70D-BFCE-4329-B66D-C606C3C1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DF8CC-FFE7-4732-819A-53D0B146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17243-4079-4D59-B907-0D8A0EB1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3CF97-9C6F-4272-BD8B-2DF6DDCB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7C6EF-158E-4E7B-B0F4-0BA7E1DC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D26D3-54C4-490D-871B-B6F25822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9C3B-11D9-41C9-8F8D-63163B6D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11E71-E2D3-45BC-B733-376370B7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94FD2-5EBF-4DD4-BB3F-2F7211DC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4DEED-2FBE-4BD6-937C-C922DBE2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3FCFA-86CD-466E-B6C0-DF7225E8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010C0-8171-4871-A1E4-C5B85613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BF2C3-8997-4656-9848-FEA2D665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9FAC-B0D7-4E15-BEBD-42459267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8A6D0-2625-415D-A06E-C6A7A716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73DB9-7A22-452E-A3E7-2BEA778B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7BD09-0125-438E-A4AD-8F524BF4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D5E-BDE9-407C-AD61-3D6EF1E9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523E4-C915-4C1D-A826-CA26F312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E082C-8C47-4335-9667-0ED77BC7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95BE8-BAC1-4827-9A92-E23EE98A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3D2F1-6A75-4FA6-841B-4290E242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4E553-A735-4283-B172-AD911DA1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4A6B0-88B9-4EA9-9F71-1EA658FC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6B100-BA1A-4733-A1A6-2E18A5F7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FEE38-B168-4DEB-B13B-1231B4EF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15785-FC41-4A3A-8D81-41429C9B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4B649-8AD6-4023-81A1-39057D2B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3CE0-8B3F-4E1A-8103-7942F0D9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E6378-C750-4E3C-8B8B-FD8BC9A8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7139F-3842-4AF3-82A6-6624A016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F18EF-ADEF-484B-A5ED-226C6EFD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1DD6F-8ADE-433C-9831-3C80A53B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A5E08-2CEB-406C-9EBA-6BC3C5B2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F7FD0-171D-4788-9C6A-A6EF14D7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B7612-6E60-4792-925C-161954FE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CC190-4B12-40AE-A6DA-E6D82827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AE35F-077E-4EA4-BEE8-50C5AC2B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131BB-D727-4285-A771-43E19A6D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0F59-858B-4841-B71F-9556DC18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244AA-E344-41BA-8388-F24186C6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5C174-44F0-41ED-ACE5-8705D476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11EE3-B821-45D6-9667-F0EB316F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C2D72-A69D-43F4-8CB8-EA89D1EA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512C2-89D4-4B77-B5DA-F3989A6A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4B67F-4866-486C-9D04-4B7E07CD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84F14-EE0A-4953-8A3B-0733C277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E143F-B6AD-4518-8874-63E87ED8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E1621-0D87-494D-B394-6188ACCE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76497-72EB-4BE4-9700-B777BA4A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BC0-D13F-492A-9A55-D9B27417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84F64-7521-4771-9F32-A500ED02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7FAEB-6446-4728-B414-53994BC1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12779-F3F3-4B35-B2A2-CD8AF689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227D5-15A9-4FF7-81AB-8A4110D2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25E5D-DACB-4374-AA4D-491EF2ED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B7110-13DC-4DF1-8AA8-A03CE0BD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0061D-BD31-4103-A5D3-CEA07983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B2901-2BEA-4629-81DD-CE51EACB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85D06-D00F-4321-9CB9-FF9E5A29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6D703-469D-426F-963E-E438402D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D38-7F4A-4682-952E-E7DFBA89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487C1-4397-4D39-B3EE-2D190C8C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1DFB2-35F2-467C-87BC-523C3F8B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3129D-09B0-4FAB-A583-0FA2DA35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8C90B-4060-40F8-AEC5-9D0DE717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32462-B8ED-4E73-B521-F60AD6EA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020AF-1E8F-4C49-AE3B-07057F4F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01F32-50AF-4B73-804C-F8CCE7F5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23C6A-EFAB-41CB-8559-EDCBD83D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9D659-1620-4683-903E-B31D5C4B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5A6F8-7E0D-42D0-9435-ACC0AF7E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422-5011-4AC3-80C3-1EA4DDB1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83041-EEA1-45AA-BE86-01306200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96150-DB06-43C5-A8C7-58F6A37A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9A680-13F4-4B11-B3ED-49A68CC3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BEC7A-4AC0-418C-8D49-FF1A7953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0B6C1-F8C3-4F43-B333-0DE7BF3F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71AC8-3FCA-4202-A705-A7F4F34A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44030-D7A3-437A-8BD8-7C2ACA06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5FFE3-0877-4F1B-91FC-03840467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4BD85-5961-4166-91F2-4BB6BB1C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30727-F5EC-4B82-8E2A-0774EBB9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144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6144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6144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6144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6144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6144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6144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32FB-11AE-4EFF-8390-619104D6C54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E764-8BAC-45D9-A623-DF54EB7B6FB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1D87-AA45-49C9-8D64-D39B18F29B9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1267-8D3F-492E-8BAE-0BE154A2850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BADE-FCB5-46AD-A5C5-B007C002FC7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62465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62466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62467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62468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62469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62470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62471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F493-47A0-448D-B3AE-039D9C3521F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3957-60D3-4B4F-93FD-E7F7733207A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D091-0DD7-49DF-8722-4FDFBE9743B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E676-954A-4001-BB40-54F2C866E9F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14DA-0B97-4247-A39F-DCF2F36D155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2981-5ECE-4BFA-A98F-C0EEA733F31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5F77-F9DE-4011-869D-2668B2E30AB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4E40-D462-44BA-89B3-58D9435B250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jiujiang.gov.cn/jjlyw/lushan/lvyou/index.htm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oduhom.com/wslf/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文本框 6146"/>
          <p:cNvSpPr/>
          <p:nvPr/>
        </p:nvSpPr>
        <p:spPr>
          <a:xfrm>
            <a:off x="2133720" y="1676520"/>
            <a:ext cx="6324480" cy="25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767ff"/>
                </a:solidFill>
                <a:latin typeface="Arial"/>
                <a:ea typeface="楷体_GB2312"/>
              </a:rPr>
              <a:t>题 西 林 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宋代 苏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6147"/>
          <p:cNvSpPr/>
          <p:nvPr/>
        </p:nvSpPr>
        <p:spPr>
          <a:xfrm>
            <a:off x="1143000" y="5029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图片 6148" descr="马飞"/>
          <p:cNvPicPr/>
          <p:nvPr/>
        </p:nvPicPr>
        <p:blipFill>
          <a:blip r:embed="rId1"/>
          <a:stretch/>
        </p:blipFill>
        <p:spPr>
          <a:xfrm>
            <a:off x="533520" y="1600200"/>
            <a:ext cx="2286000" cy="14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Arial"/>
                <a:ea typeface="新宋体"/>
              </a:rPr>
              <a:t>远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内容占位符 17409" descr="chunti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4114800" cy="4629240"/>
          </a:xfrm>
          <a:prstGeom prst="rect">
            <a:avLst/>
          </a:prstGeom>
          <a:ln w="0">
            <a:noFill/>
          </a:ln>
        </p:spPr>
      </p:pic>
      <p:pic>
        <p:nvPicPr>
          <p:cNvPr id="593" name="文本占位符 17414" descr="hanpokou1"/>
          <p:cNvPicPr/>
          <p:nvPr/>
        </p:nvPicPr>
        <p:blipFill>
          <a:blip r:embed="rId3"/>
          <a:stretch/>
        </p:blipFill>
        <p:spPr>
          <a:xfrm>
            <a:off x="4800600" y="1600200"/>
            <a:ext cx="396252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600" spc="-1" strike="noStrike">
                <a:solidFill>
                  <a:srgbClr val="ff0066"/>
                </a:solidFill>
                <a:latin typeface="Arial"/>
                <a:ea typeface="新宋体"/>
              </a:rPr>
              <a:t>近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文本占位符 45062" descr="showi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596" name="文本占位符 45063" descr="shuangjianfeng"/>
          <p:cNvPicPr/>
          <p:nvPr/>
        </p:nvPicPr>
        <p:blipFill>
          <a:blip r:embed="rId3"/>
          <a:stretch/>
        </p:blipFill>
        <p:spPr>
          <a:xfrm>
            <a:off x="4952880" y="1600200"/>
            <a:ext cx="38102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8000"/>
                </a:solidFill>
                <a:latin typeface="Arial"/>
                <a:ea typeface="仿宋_GB2312"/>
              </a:rPr>
              <a:t>高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文本占位符 25606" descr="独树一帜"/>
          <p:cNvPicPr/>
          <p:nvPr/>
        </p:nvPicPr>
        <p:blipFill>
          <a:blip r:embed="rId1"/>
          <a:stretch/>
        </p:blipFill>
        <p:spPr>
          <a:xfrm>
            <a:off x="457200" y="1600200"/>
            <a:ext cx="3699000" cy="4572000"/>
          </a:xfrm>
          <a:prstGeom prst="rect">
            <a:avLst/>
          </a:prstGeom>
          <a:ln w="0">
            <a:noFill/>
          </a:ln>
        </p:spPr>
      </p:pic>
      <p:pic>
        <p:nvPicPr>
          <p:cNvPr id="599" name="文本占位符 25607" descr="wulaofeng2"/>
          <p:cNvPicPr/>
          <p:nvPr/>
        </p:nvPicPr>
        <p:blipFill>
          <a:blip r:embed="rId2"/>
          <a:stretch/>
        </p:blipFill>
        <p:spPr>
          <a:xfrm>
            <a:off x="4724280" y="1600200"/>
            <a:ext cx="3733920" cy="45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图片 23557" descr="瀑布1"/>
          <p:cNvPicPr/>
          <p:nvPr/>
        </p:nvPicPr>
        <p:blipFill>
          <a:blip r:embed="rId1"/>
          <a:stretch/>
        </p:blipFill>
        <p:spPr>
          <a:xfrm>
            <a:off x="304920" y="1523880"/>
            <a:ext cx="4114800" cy="4610160"/>
          </a:xfrm>
          <a:prstGeom prst="rect">
            <a:avLst/>
          </a:prstGeom>
          <a:ln w="0">
            <a:noFill/>
          </a:ln>
        </p:spPr>
      </p:pic>
      <p:pic>
        <p:nvPicPr>
          <p:cNvPr id="601" name="内容占位符 23561" descr="瀑布2"/>
          <p:cNvPicPr/>
          <p:nvPr/>
        </p:nvPicPr>
        <p:blipFill>
          <a:blip r:embed="rId2"/>
          <a:stretch/>
        </p:blipFill>
        <p:spPr>
          <a:xfrm>
            <a:off x="4724280" y="1523880"/>
            <a:ext cx="3962520" cy="4648320"/>
          </a:xfrm>
          <a:prstGeom prst="rect">
            <a:avLst/>
          </a:prstGeom>
          <a:ln w="0">
            <a:noFill/>
          </a:ln>
        </p:spPr>
      </p:pic>
      <p:sp>
        <p:nvSpPr>
          <p:cNvPr id="602" name="文本框 23563"/>
          <p:cNvSpPr/>
          <p:nvPr/>
        </p:nvSpPr>
        <p:spPr>
          <a:xfrm>
            <a:off x="3124080" y="0"/>
            <a:ext cx="320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8000"/>
                </a:solidFill>
                <a:latin typeface="Arial"/>
                <a:ea typeface="楷体_GB2312"/>
              </a:rPr>
              <a:t>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文本框 49153"/>
          <p:cNvSpPr/>
          <p:nvPr/>
        </p:nvSpPr>
        <p:spPr>
          <a:xfrm>
            <a:off x="2469960" y="1841400"/>
            <a:ext cx="4204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不识庐山真面目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只缘身在此山中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49154"/>
          <p:cNvSpPr/>
          <p:nvPr/>
        </p:nvSpPr>
        <p:spPr>
          <a:xfrm>
            <a:off x="4903920" y="8380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真实的全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组合 49155"/>
          <p:cNvGrpSpPr/>
          <p:nvPr/>
        </p:nvGrpSpPr>
        <p:grpSpPr>
          <a:xfrm>
            <a:off x="4572000" y="1523880"/>
            <a:ext cx="2362320" cy="1295280"/>
            <a:chOff x="4572000" y="1523880"/>
            <a:chExt cx="2362320" cy="1295280"/>
          </a:xfrm>
        </p:grpSpPr>
        <p:sp>
          <p:nvSpPr>
            <p:cNvPr id="606" name="上箭头 49156"/>
            <p:cNvSpPr/>
            <p:nvPr/>
          </p:nvSpPr>
          <p:spPr>
            <a:xfrm>
              <a:off x="5715000" y="1523880"/>
              <a:ext cx="228600" cy="533160"/>
            </a:xfrm>
            <a:prstGeom prst="upArrow">
              <a:avLst>
                <a:gd name="adj1" fmla="val 50000"/>
                <a:gd name="adj2" fmla="val 58296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49157"/>
            <p:cNvSpPr/>
            <p:nvPr/>
          </p:nvSpPr>
          <p:spPr>
            <a:xfrm>
              <a:off x="4572000" y="2819160"/>
              <a:ext cx="2362320" cy="0"/>
            </a:xfrm>
            <a:prstGeom prst="line">
              <a:avLst/>
            </a:prstGeom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文本框 49158"/>
          <p:cNvSpPr/>
          <p:nvPr/>
        </p:nvSpPr>
        <p:spPr>
          <a:xfrm>
            <a:off x="1927080" y="517356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因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49159"/>
          <p:cNvSpPr/>
          <p:nvPr/>
        </p:nvSpPr>
        <p:spPr>
          <a:xfrm>
            <a:off x="2165760" y="4946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因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内容占位符 24577" descr="bilongt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正面看，庐山山岭连绵起伏；从侧面看，则山峰耸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论是从远处、近处、高处、低处看，庐山的外貌是各不相同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之所以不能认识庐山的真实面貌，是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身处在这层峦叠嶂的庐山之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53249"/>
          <p:cNvSpPr txBox="1"/>
          <p:nvPr/>
        </p:nvSpPr>
        <p:spPr>
          <a:xfrm>
            <a:off x="380880" y="228600"/>
            <a:ext cx="2133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填空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13" name="矩形 53250"/>
          <p:cNvSpPr/>
          <p:nvPr/>
        </p:nvSpPr>
        <p:spPr>
          <a:xfrm>
            <a:off x="1219320" y="1633680"/>
            <a:ext cx="70102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Times New Roman"/>
                <a:ea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看成岭</a:t>
            </a:r>
            <a:r>
              <a:rPr b="1" lang="zh-CN" sz="5400" spc="-1" strike="noStrike" u="sng">
                <a:solidFill>
                  <a:srgbClr val="ffffff"/>
                </a:solidFill>
                <a:uFillTx/>
                <a:latin typeface="Times New Roman"/>
                <a:ea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成峰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ffff"/>
                </a:solidFill>
                <a:uFillTx/>
                <a:latin typeface="Times New Roman"/>
                <a:ea typeface="华文新魏"/>
              </a:rPr>
              <a:t>       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各不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ffff"/>
                </a:solidFill>
                <a:uFillTx/>
                <a:latin typeface="Times New Roman"/>
                <a:ea typeface="华文新魏"/>
              </a:rPr>
              <a:t>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庐山真面目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只</a:t>
            </a:r>
            <a:r>
              <a:rPr b="1" lang="zh-CN" sz="5400" spc="-1" strike="noStrike" u="sng">
                <a:solidFill>
                  <a:srgbClr val="ffffff"/>
                </a:solidFill>
                <a:uFillTx/>
                <a:latin typeface="Times New Roman"/>
                <a:ea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身在此山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53251"/>
          <p:cNvSpPr/>
          <p:nvPr/>
        </p:nvSpPr>
        <p:spPr>
          <a:xfrm>
            <a:off x="1357920" y="1600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53252"/>
          <p:cNvSpPr/>
          <p:nvPr/>
        </p:nvSpPr>
        <p:spPr>
          <a:xfrm>
            <a:off x="4177440" y="1600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53253"/>
          <p:cNvSpPr/>
          <p:nvPr/>
        </p:nvSpPr>
        <p:spPr>
          <a:xfrm>
            <a:off x="1769400" y="28954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远近高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53254"/>
          <p:cNvSpPr/>
          <p:nvPr/>
        </p:nvSpPr>
        <p:spPr>
          <a:xfrm>
            <a:off x="1615680" y="41148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不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53255"/>
          <p:cNvSpPr/>
          <p:nvPr/>
        </p:nvSpPr>
        <p:spPr>
          <a:xfrm>
            <a:off x="2088360" y="53341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图片 58371" descr="p_large_6v7z_6db4000206062d11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20" name="文本框 58372"/>
          <p:cNvSpPr/>
          <p:nvPr/>
        </p:nvSpPr>
        <p:spPr>
          <a:xfrm>
            <a:off x="89856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58373"/>
          <p:cNvSpPr/>
          <p:nvPr/>
        </p:nvSpPr>
        <p:spPr>
          <a:xfrm>
            <a:off x="1997280" y="26892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、二句告诉我们什么道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58374"/>
          <p:cNvSpPr/>
          <p:nvPr/>
        </p:nvSpPr>
        <p:spPr>
          <a:xfrm>
            <a:off x="1050840" y="314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58375"/>
          <p:cNvSpPr/>
          <p:nvPr/>
        </p:nvSpPr>
        <p:spPr>
          <a:xfrm>
            <a:off x="4043880" y="3046320"/>
            <a:ext cx="7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站的角度不同，观察到的景物就不一样。我们要学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多个角度看事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矩形 29700"/>
          <p:cNvSpPr txBox="1"/>
          <p:nvPr/>
        </p:nvSpPr>
        <p:spPr>
          <a:xfrm>
            <a:off x="1905120" y="1676520"/>
            <a:ext cx="3657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泰山</a:t>
            </a:r>
            <a:endParaRPr b="1" lang="en-US" sz="8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文本框 7171"/>
          <p:cNvSpPr/>
          <p:nvPr/>
        </p:nvSpPr>
        <p:spPr>
          <a:xfrm>
            <a:off x="2819520" y="0"/>
            <a:ext cx="6324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宋体"/>
              </a:rPr>
              <a:t>苏轼，字子瞻，号东坡居士，北宋著名文学家、书画家。他的诗、文、书、画都很专精，是“唐宋八大家”之一。他在诗、词散文的创作上都有很大的成就，对词的发展作出了贡献，著有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宋体"/>
              </a:rPr>
              <a:t>东坡全集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宋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图片 7172" descr="苏轼"/>
          <p:cNvPicPr/>
          <p:nvPr/>
        </p:nvPicPr>
        <p:blipFill>
          <a:blip r:embed="rId1"/>
          <a:stretch/>
        </p:blipFill>
        <p:spPr>
          <a:xfrm>
            <a:off x="0" y="1143000"/>
            <a:ext cx="28051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图片 32771" descr="泰山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文本框 34819"/>
          <p:cNvSpPr/>
          <p:nvPr/>
        </p:nvSpPr>
        <p:spPr>
          <a:xfrm>
            <a:off x="0" y="990720"/>
            <a:ext cx="89154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宋体"/>
              </a:rPr>
              <a:t>以上五幅关于泰山的不同角度的图片 ，是不是一样？有什么不同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这一只钢笔从不同的角度看有何不同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图片 38918" descr="钢笔1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464832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38919" descr="钢笔3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文本框 59396"/>
          <p:cNvSpPr/>
          <p:nvPr/>
        </p:nvSpPr>
        <p:spPr>
          <a:xfrm>
            <a:off x="4122720" y="1295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、四句告诉我们什么道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59397"/>
          <p:cNvSpPr/>
          <p:nvPr/>
        </p:nvSpPr>
        <p:spPr>
          <a:xfrm>
            <a:off x="4519080" y="2793960"/>
            <a:ext cx="5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这两句诗告诉我们，要全面、客观、正确地看待事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不能只看到事物的某一个方面。还要亲自去观察、体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文本框 11265"/>
          <p:cNvSpPr/>
          <p:nvPr/>
        </p:nvSpPr>
        <p:spPr>
          <a:xfrm>
            <a:off x="930240" y="1465200"/>
            <a:ext cx="653724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题西林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苏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横看  成岭</a:t>
            </a: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侧  成峰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远近  高低</a:t>
            </a: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各  不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不识  庐山</a:t>
            </a: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真 面 目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只缘  身在</a:t>
            </a: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此 山 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接连接符 11266"/>
          <p:cNvSpPr/>
          <p:nvPr/>
        </p:nvSpPr>
        <p:spPr>
          <a:xfrm>
            <a:off x="2514600" y="323064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直接连接符 11267"/>
          <p:cNvSpPr/>
          <p:nvPr/>
        </p:nvSpPr>
        <p:spPr>
          <a:xfrm>
            <a:off x="4952880" y="323064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椭圆 11268"/>
          <p:cNvSpPr/>
          <p:nvPr/>
        </p:nvSpPr>
        <p:spPr>
          <a:xfrm>
            <a:off x="1295280" y="3535200"/>
            <a:ext cx="7488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椭圆 11269"/>
          <p:cNvSpPr/>
          <p:nvPr/>
        </p:nvSpPr>
        <p:spPr>
          <a:xfrm>
            <a:off x="3733920" y="3535200"/>
            <a:ext cx="7452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椭圆 11270"/>
          <p:cNvSpPr/>
          <p:nvPr/>
        </p:nvSpPr>
        <p:spPr>
          <a:xfrm>
            <a:off x="4573440" y="3535200"/>
            <a:ext cx="7488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椭圆 11271"/>
          <p:cNvSpPr/>
          <p:nvPr/>
        </p:nvSpPr>
        <p:spPr>
          <a:xfrm>
            <a:off x="6324480" y="3535200"/>
            <a:ext cx="74880" cy="108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11272"/>
          <p:cNvSpPr/>
          <p:nvPr/>
        </p:nvSpPr>
        <p:spPr>
          <a:xfrm>
            <a:off x="7734600" y="4624560"/>
            <a:ext cx="10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73a9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2373a9"/>
                </a:solidFill>
                <a:latin typeface="Times New Roman"/>
                <a:ea typeface="楷体_GB2312"/>
              </a:rPr>
              <a:t>轻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11273"/>
          <p:cNvSpPr/>
          <p:nvPr/>
        </p:nvSpPr>
        <p:spPr>
          <a:xfrm>
            <a:off x="7718760" y="5364000"/>
            <a:ext cx="10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73a9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2373a9"/>
                </a:solidFill>
                <a:latin typeface="Times New Roman"/>
                <a:ea typeface="楷体_GB2312"/>
              </a:rPr>
              <a:t>强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直接连接符 11274"/>
          <p:cNvSpPr/>
          <p:nvPr/>
        </p:nvSpPr>
        <p:spPr>
          <a:xfrm flipV="1">
            <a:off x="4114800" y="3077640"/>
            <a:ext cx="152280" cy="30492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11275"/>
          <p:cNvGrpSpPr/>
          <p:nvPr/>
        </p:nvGrpSpPr>
        <p:grpSpPr>
          <a:xfrm>
            <a:off x="2209680" y="3916080"/>
            <a:ext cx="4114800" cy="2165760"/>
            <a:chOff x="2209680" y="3916080"/>
            <a:chExt cx="4114800" cy="2165760"/>
          </a:xfrm>
        </p:grpSpPr>
        <p:sp>
          <p:nvSpPr>
            <p:cNvPr id="645" name="直接连接符 11276"/>
            <p:cNvSpPr/>
            <p:nvPr/>
          </p:nvSpPr>
          <p:spPr>
            <a:xfrm>
              <a:off x="2438280" y="4068720"/>
              <a:ext cx="38124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直接连接符 11277"/>
            <p:cNvSpPr/>
            <p:nvPr/>
          </p:nvSpPr>
          <p:spPr>
            <a:xfrm>
              <a:off x="2438280" y="4907160"/>
              <a:ext cx="38124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直接连接符 11278"/>
            <p:cNvSpPr/>
            <p:nvPr/>
          </p:nvSpPr>
          <p:spPr>
            <a:xfrm>
              <a:off x="2438280" y="5668920"/>
              <a:ext cx="38124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直接连接符 11279"/>
            <p:cNvSpPr/>
            <p:nvPr/>
          </p:nvSpPr>
          <p:spPr>
            <a:xfrm>
              <a:off x="4952880" y="4068720"/>
              <a:ext cx="38124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椭圆 11280"/>
            <p:cNvSpPr/>
            <p:nvPr/>
          </p:nvSpPr>
          <p:spPr>
            <a:xfrm>
              <a:off x="4572000" y="4297320"/>
              <a:ext cx="74520" cy="108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椭圆 11281"/>
            <p:cNvSpPr/>
            <p:nvPr/>
          </p:nvSpPr>
          <p:spPr>
            <a:xfrm>
              <a:off x="4724280" y="5180040"/>
              <a:ext cx="74880" cy="108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椭圆 11282"/>
            <p:cNvSpPr/>
            <p:nvPr/>
          </p:nvSpPr>
          <p:spPr>
            <a:xfrm>
              <a:off x="2209680" y="5973840"/>
              <a:ext cx="74880" cy="108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椭圆 11283"/>
            <p:cNvSpPr/>
            <p:nvPr/>
          </p:nvSpPr>
          <p:spPr>
            <a:xfrm>
              <a:off x="4572000" y="5942160"/>
              <a:ext cx="74520" cy="108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椭圆 11284"/>
            <p:cNvSpPr/>
            <p:nvPr/>
          </p:nvSpPr>
          <p:spPr>
            <a:xfrm>
              <a:off x="5410080" y="5973840"/>
              <a:ext cx="74880" cy="108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椭圆 11285"/>
            <p:cNvSpPr/>
            <p:nvPr/>
          </p:nvSpPr>
          <p:spPr>
            <a:xfrm>
              <a:off x="6249960" y="5973840"/>
              <a:ext cx="74520" cy="108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直接连接符 11286"/>
            <p:cNvSpPr/>
            <p:nvPr/>
          </p:nvSpPr>
          <p:spPr>
            <a:xfrm flipV="1">
              <a:off x="4114800" y="3916080"/>
              <a:ext cx="152280" cy="30492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直接连接符 11287"/>
            <p:cNvSpPr/>
            <p:nvPr/>
          </p:nvSpPr>
          <p:spPr>
            <a:xfrm flipV="1">
              <a:off x="4114800" y="4754160"/>
              <a:ext cx="152280" cy="30492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直接连接符 11288"/>
            <p:cNvSpPr/>
            <p:nvPr/>
          </p:nvSpPr>
          <p:spPr>
            <a:xfrm flipV="1">
              <a:off x="4114800" y="5592960"/>
              <a:ext cx="152280" cy="30456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矩形 11289"/>
          <p:cNvSpPr txBox="1"/>
          <p:nvPr/>
        </p:nvSpPr>
        <p:spPr>
          <a:xfrm>
            <a:off x="380880" y="228600"/>
            <a:ext cx="304812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华文隶书"/>
              </a:rPr>
              <a:t>朗读指导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华文隶书"/>
              <a:ea typeface="华文隶书"/>
            </a:endParaRPr>
          </a:p>
        </p:txBody>
      </p:sp>
    </p:spTree>
  </p:cSld>
  <p:transition spd="slow">
    <p:dissolv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图片 43012" descr="海鸥"/>
          <p:cNvPicPr/>
          <p:nvPr/>
        </p:nvPicPr>
        <p:blipFill>
          <a:blip r:embed="rId1"/>
          <a:stretch/>
        </p:blipFill>
        <p:spPr>
          <a:xfrm>
            <a:off x="609480" y="990720"/>
            <a:ext cx="2667240" cy="1280880"/>
          </a:xfrm>
          <a:prstGeom prst="rect">
            <a:avLst/>
          </a:prstGeom>
          <a:ln w="0">
            <a:noFill/>
          </a:ln>
        </p:spPr>
      </p:pic>
      <p:pic>
        <p:nvPicPr>
          <p:cNvPr id="660" name="图片 43013" descr="蝴蝶1"/>
          <p:cNvPicPr/>
          <p:nvPr/>
        </p:nvPicPr>
        <p:blipFill>
          <a:blip r:embed="rId2"/>
          <a:stretch/>
        </p:blipFill>
        <p:spPr>
          <a:xfrm>
            <a:off x="3429000" y="1905120"/>
            <a:ext cx="1219320" cy="1147680"/>
          </a:xfrm>
          <a:prstGeom prst="rect">
            <a:avLst/>
          </a:prstGeom>
          <a:ln w="0">
            <a:noFill/>
          </a:ln>
        </p:spPr>
      </p:pic>
      <p:sp>
        <p:nvSpPr>
          <p:cNvPr id="661" name="矩形 43015"/>
          <p:cNvSpPr txBox="1"/>
          <p:nvPr/>
        </p:nvSpPr>
        <p:spPr>
          <a:xfrm>
            <a:off x="5410080" y="3733920"/>
            <a:ext cx="31244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再见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62" name="矩形 43016"/>
          <p:cNvSpPr/>
          <p:nvPr/>
        </p:nvSpPr>
        <p:spPr>
          <a:xfrm>
            <a:off x="1447920" y="608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8196" descr="西林寺1"/>
          <p:cNvPicPr/>
          <p:nvPr/>
        </p:nvPicPr>
        <p:blipFill>
          <a:blip r:embed="rId1"/>
          <a:stretch/>
        </p:blipFill>
        <p:spPr>
          <a:xfrm>
            <a:off x="1143000" y="45720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553" name="文本框 8197"/>
          <p:cNvSpPr/>
          <p:nvPr/>
        </p:nvSpPr>
        <p:spPr>
          <a:xfrm>
            <a:off x="2971800" y="585144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西  林  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10241"/>
          <p:cNvSpPr/>
          <p:nvPr/>
        </p:nvSpPr>
        <p:spPr>
          <a:xfrm>
            <a:off x="1752480" y="152280"/>
            <a:ext cx="6275520" cy="69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题西林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               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苏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横看成岭侧成峰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远近高低各不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不识庐山真面目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只缘身在此山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文本框 52225"/>
          <p:cNvSpPr/>
          <p:nvPr/>
        </p:nvSpPr>
        <p:spPr>
          <a:xfrm>
            <a:off x="3145680" y="685800"/>
            <a:ext cx="18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比一比，再组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52226"/>
          <p:cNvSpPr/>
          <p:nvPr/>
        </p:nvSpPr>
        <p:spPr>
          <a:xfrm>
            <a:off x="447480" y="213372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缘（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52227"/>
          <p:cNvSpPr/>
          <p:nvPr/>
        </p:nvSpPr>
        <p:spPr>
          <a:xfrm>
            <a:off x="523800" y="294480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绿（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52228"/>
          <p:cNvSpPr/>
          <p:nvPr/>
        </p:nvSpPr>
        <p:spPr>
          <a:xfrm>
            <a:off x="4829040" y="221292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隐（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52229"/>
          <p:cNvSpPr/>
          <p:nvPr/>
        </p:nvSpPr>
        <p:spPr>
          <a:xfrm>
            <a:off x="4797360" y="297180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稳（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52230"/>
          <p:cNvSpPr/>
          <p:nvPr/>
        </p:nvSpPr>
        <p:spPr>
          <a:xfrm>
            <a:off x="561960" y="411480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侧（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52231"/>
          <p:cNvSpPr/>
          <p:nvPr/>
        </p:nvSpPr>
        <p:spPr>
          <a:xfrm>
            <a:off x="530280" y="487368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测（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52232"/>
          <p:cNvSpPr/>
          <p:nvPr/>
        </p:nvSpPr>
        <p:spPr>
          <a:xfrm>
            <a:off x="4790880" y="411480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峰（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52233"/>
          <p:cNvSpPr/>
          <p:nvPr/>
        </p:nvSpPr>
        <p:spPr>
          <a:xfrm>
            <a:off x="4790880" y="487692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锋（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文本框 47105"/>
          <p:cNvSpPr/>
          <p:nvPr/>
        </p:nvSpPr>
        <p:spPr>
          <a:xfrm>
            <a:off x="3384360" y="1909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题西林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47106"/>
          <p:cNvSpPr/>
          <p:nvPr/>
        </p:nvSpPr>
        <p:spPr>
          <a:xfrm>
            <a:off x="5376600" y="6858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墙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47107"/>
          <p:cNvGrpSpPr/>
          <p:nvPr/>
        </p:nvGrpSpPr>
        <p:grpSpPr>
          <a:xfrm>
            <a:off x="5486400" y="1600200"/>
            <a:ext cx="838080" cy="1359000"/>
            <a:chOff x="5486400" y="1600200"/>
            <a:chExt cx="838080" cy="1359000"/>
          </a:xfrm>
        </p:grpSpPr>
        <p:sp>
          <p:nvSpPr>
            <p:cNvPr id="567" name="上箭头 47108"/>
            <p:cNvSpPr/>
            <p:nvPr/>
          </p:nvSpPr>
          <p:spPr>
            <a:xfrm>
              <a:off x="5867280" y="1600200"/>
              <a:ext cx="228600" cy="533520"/>
            </a:xfrm>
            <a:prstGeom prst="upArrow">
              <a:avLst>
                <a:gd name="adj1" fmla="val 50000"/>
                <a:gd name="adj2" fmla="val 58335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47109"/>
            <p:cNvSpPr/>
            <p:nvPr/>
          </p:nvSpPr>
          <p:spPr>
            <a:xfrm>
              <a:off x="5486400" y="2959200"/>
              <a:ext cx="838080" cy="0"/>
            </a:xfrm>
            <a:prstGeom prst="line">
              <a:avLst/>
            </a:prstGeom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文本框 47112"/>
          <p:cNvSpPr/>
          <p:nvPr/>
        </p:nvSpPr>
        <p:spPr>
          <a:xfrm>
            <a:off x="2212920" y="2271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d8ec"/>
                </a:solidFill>
                <a:latin typeface="Arial"/>
                <a:ea typeface="黑体"/>
              </a:rPr>
              <a:t>疏通字词，理解诗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文本框 47113"/>
          <p:cNvSpPr/>
          <p:nvPr/>
        </p:nvSpPr>
        <p:spPr>
          <a:xfrm>
            <a:off x="3379680" y="779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书写题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文本框 48129"/>
          <p:cNvSpPr/>
          <p:nvPr/>
        </p:nvSpPr>
        <p:spPr>
          <a:xfrm>
            <a:off x="2469960" y="2908440"/>
            <a:ext cx="4204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横看成岭侧成峰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远近高低各不同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48130"/>
          <p:cNvSpPr/>
          <p:nvPr/>
        </p:nvSpPr>
        <p:spPr>
          <a:xfrm>
            <a:off x="2460600" y="191772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连绵起伏的山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48131"/>
          <p:cNvSpPr/>
          <p:nvPr/>
        </p:nvSpPr>
        <p:spPr>
          <a:xfrm>
            <a:off x="5203800" y="114300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Times New Roman"/>
                <a:ea typeface="华文新魏"/>
              </a:rPr>
              <a:t>巍然耸立的险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组合 48132"/>
          <p:cNvGrpSpPr/>
          <p:nvPr/>
        </p:nvGrpSpPr>
        <p:grpSpPr>
          <a:xfrm>
            <a:off x="3733920" y="2527200"/>
            <a:ext cx="838080" cy="1359000"/>
            <a:chOff x="3733920" y="2527200"/>
            <a:chExt cx="838080" cy="1359000"/>
          </a:xfrm>
        </p:grpSpPr>
        <p:sp>
          <p:nvSpPr>
            <p:cNvPr id="575" name="上箭头 48133"/>
            <p:cNvSpPr/>
            <p:nvPr/>
          </p:nvSpPr>
          <p:spPr>
            <a:xfrm>
              <a:off x="4114800" y="2527200"/>
              <a:ext cx="228600" cy="533520"/>
            </a:xfrm>
            <a:prstGeom prst="upArrow">
              <a:avLst>
                <a:gd name="adj1" fmla="val 50000"/>
                <a:gd name="adj2" fmla="val 58335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直接连接符 48134"/>
            <p:cNvSpPr/>
            <p:nvPr/>
          </p:nvSpPr>
          <p:spPr>
            <a:xfrm>
              <a:off x="3733920" y="3886200"/>
              <a:ext cx="838080" cy="0"/>
            </a:xfrm>
            <a:prstGeom prst="line">
              <a:avLst/>
            </a:prstGeom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组合 48135"/>
          <p:cNvGrpSpPr/>
          <p:nvPr/>
        </p:nvGrpSpPr>
        <p:grpSpPr>
          <a:xfrm>
            <a:off x="6324480" y="1828800"/>
            <a:ext cx="838440" cy="2057400"/>
            <a:chOff x="6324480" y="1828800"/>
            <a:chExt cx="838440" cy="2057400"/>
          </a:xfrm>
        </p:grpSpPr>
        <p:sp>
          <p:nvSpPr>
            <p:cNvPr id="578" name="上箭头 48136"/>
            <p:cNvSpPr/>
            <p:nvPr/>
          </p:nvSpPr>
          <p:spPr>
            <a:xfrm>
              <a:off x="6648480" y="1828800"/>
              <a:ext cx="209520" cy="1219320"/>
            </a:xfrm>
            <a:prstGeom prst="upArrow">
              <a:avLst>
                <a:gd name="adj1" fmla="val 50000"/>
                <a:gd name="adj2" fmla="val 145463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直接连接符 48137"/>
            <p:cNvSpPr/>
            <p:nvPr/>
          </p:nvSpPr>
          <p:spPr>
            <a:xfrm>
              <a:off x="6324480" y="3886200"/>
              <a:ext cx="838440" cy="0"/>
            </a:xfrm>
            <a:prstGeom prst="line">
              <a:avLst/>
            </a:prstGeom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600" spc="-1" strike="noStrike">
                <a:solidFill>
                  <a:srgbClr val="ff3300"/>
                </a:solidFill>
                <a:latin typeface="Arial"/>
              </a:rPr>
              <a:t>岭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图片 13327" descr="岭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5105520"/>
          </a:xfrm>
          <a:prstGeom prst="rect">
            <a:avLst/>
          </a:prstGeom>
          <a:ln w="0">
            <a:noFill/>
          </a:ln>
        </p:spPr>
      </p:pic>
      <p:pic>
        <p:nvPicPr>
          <p:cNvPr id="584" name="图片 13328" descr="山岭3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Arial"/>
                <a:ea typeface="楷体_GB2312"/>
              </a:rPr>
              <a:t>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图片 15366" descr="山峰2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7200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15367" descr="山峰3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4T03:32:03Z</dcterms:created>
  <dc:creator/>
  <dc:description/>
  <dc:language>en-US</dc:language>
  <cp:lastModifiedBy>万润仪器贸易公司</cp:lastModifiedBy>
  <dcterms:modified xsi:type="dcterms:W3CDTF">2020-08-24T03:32:08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